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B297D-6E92-41AF-90A8-4CA2C14AB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E13C0-4023-4C4D-95B4-AD3E2AA34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D09C2-E67A-470B-B71D-80182FC56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BBD1F-C8C1-4B43-90F3-32B442DBE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0F885-EFA2-42C4-8CDB-7B1FB9301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A9FBB-2BC9-496F-AC46-D167285B4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F8653-4DBC-425E-B7D1-498582FB8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F78AB-B12A-4144-8418-648E6162D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DD80C-6F2E-4670-AFAB-17EA67C1F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A45A5-0E23-48D2-A8A3-DCD137876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BAC70-D1D6-4402-9535-558C03948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2B168-5984-4D17-890D-019E82BC4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8A26F-F70C-4ED5-B689-3EC4AE943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3EE6F-D230-4505-9591-135708017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91D64-BDFE-4C13-B1AC-5A0B930E9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FC37A-5A63-431C-AF99-78A26B03C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BFF21-EF70-496D-B1E9-E48DC2662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C920C-7927-483E-A51E-52AA999F7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5CBEC-C500-4B9A-8F3A-08FB4A221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F4D48-9547-4CDE-9EA0-9671C4B84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B7C91-74A9-4195-9CD5-F7EAAE740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8BBCB-41EB-4FFD-AAEF-8130816AB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A1433-5C95-4F63-8A4E-083EBF912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CB778-4ECC-4A10-82EC-D826ABA25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E2B60-E4BC-406F-9950-DED4168DBB6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61FDD-857B-412D-ADD3-3C665A5598BA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53" name="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09720" algn="ctr">
              <a:spcBef>
                <a:spcPts val="601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17640" algn="ctr"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55640" y="112500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20000"/>
                </a:solidFill>
                <a:latin typeface="Times New Roman"/>
              </a:rPr>
              <a:t>Технологическая карта урока как одна из форм подготовки учителя к уроку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3347640" y="4292280"/>
            <a:ext cx="5110200" cy="15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езентацию подготовил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читель начальных класс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БОУ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СО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»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вершина Татьяна Михайло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20000"/>
                </a:solidFill>
                <a:latin typeface="Times New Roman"/>
              </a:rPr>
              <a:t>Что даёт использование …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23640" y="1828800"/>
            <a:ext cx="856908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организовать эффективный учебный процесс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обеспечить реализацию УУ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сократить время на подготовку учителя к урок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20000"/>
                </a:solidFill>
                <a:latin typeface="Times New Roman"/>
              </a:rPr>
              <a:t>Параметры карты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686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этапы уро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цел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содержание учебного материал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методы и приёмы организации УД обучающихс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деятельность учащихся и деятельность обучающихся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6202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20000"/>
                </a:solidFill>
                <a:latin typeface="Times New Roman"/>
              </a:rPr>
              <a:t>Технологическая карта позволит учителю 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686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еализовать планируемые результаты ФГОС второго поколен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истемно формировать у учащихся УУ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оектировать свою деятельность на четверть, полугодие, го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 практике реализовать межпредметные связ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ыполнять диагностику достижения планируемых результатов учащимися на каждом этапе освоения тем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20000"/>
                </a:solidFill>
                <a:latin typeface="Times New Roman"/>
              </a:rPr>
              <a:t>Параметры урока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619280" y="2060640"/>
            <a:ext cx="584352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6600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Название этапа уро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6600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Цели этапа уро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6600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Содержание этап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6600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Деятельность учител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6600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Деятельность учащихс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6600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Формы работ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6600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Результа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50560" y="53316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20000"/>
                </a:solidFill>
                <a:latin typeface="Times New Roman"/>
              </a:rPr>
              <a:t>Возможности технологической карты 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тщательное планирование каждого этапа деятельност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максимально полное отражение последовательности всех осуществляемых действий и операций, приводящих к намеченному результат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координация и синхронизация действий всех субъектов педагогической деятельност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введение самооценки учащихся на каждом этапе уро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20000"/>
                </a:solidFill>
                <a:latin typeface="Times New Roman"/>
              </a:rPr>
              <a:t>Этапы работы над технологической картой 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0" y="1828440"/>
            <a:ext cx="91440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Определение места урока в изучаемой теме и его ви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Формулировка цели урока (образовательные, развивающие, воспитательные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Обозначение этапов урока в соответствии с его видо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Формулировка цели каждого этапа уро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Определение результатов каждого этапа (формируемые УУД, продукт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Выбор форм работы на уроке (индивидуальная, фронтальная, парная, групповая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Разработка характеристики деятельности учителя и учени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20000"/>
                </a:solidFill>
                <a:latin typeface="Times New Roman"/>
              </a:rPr>
              <a:t>Структура технологической карты 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68000" y="1988640"/>
            <a:ext cx="8675640" cy="430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Мотивация к учебной деятельност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Актуализация знаний и фиксация затруднений в деятельност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ыявление места и причины затрудн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остроение проекта выхода из затрудн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Реализация построенного проект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ервичное закрепление с проговариванием во внешней реч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амостоятельная работа с самопроверкой по эталон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ключение в систему знаний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Рефлексия учебной деятельности (итог урока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02T06:24:30Z</dcterms:created>
  <dc:creator>user</dc:creator>
  <dc:description/>
  <dc:language>en-US</dc:language>
  <cp:lastModifiedBy>user</cp:lastModifiedBy>
  <dcterms:modified xsi:type="dcterms:W3CDTF">2013-03-04T01:46:03Z</dcterms:modified>
  <cp:revision>5</cp:revision>
  <dc:subject/>
  <dc:title>Технологическая карта урока как одна из форм подготовки учителя к уроку</dc:title>
</cp:coreProperties>
</file>